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DD8-31D7-4D80-9C02-EF75AB110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7280-FB9E-4394-836A-C4B52F221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meaning of hay.  Ask student Que hay en las clase and get a response. H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5965-FB3C-4710-BFB2-9586B44FC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ow are plurals formed in English and how is this different from Span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2D0-9D49-4580-8601-F92EE2AF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221-E511-4DE1-BA7C-96730003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704-7924-4D98-AD48-8C1BA37A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E2E-4A7A-41BC-AADF-A5DD2404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30D-3024-4C8D-B5FB-16C861E8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31C-C695-4763-AE33-A031484F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06A-B59C-4E35-84D8-8ED2DCF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54A-106F-4AAC-9351-87DFF3A1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9DD-50F0-4FD5-865D-8F317ACF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07E-2A5D-4F02-8662-29468772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A8D-DB6B-4075-8A7E-2F438919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0E1-1F4D-49CD-822A-D207C136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42CD-6D78-4413-8D63-2D1EC5554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.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can0007"/>
          <p:cNvPicPr/>
          <p:nvPr/>
        </p:nvPicPr>
        <p:blipFill>
          <a:blip r:embed="rId1"/>
          <a:stretch/>
        </p:blipFill>
        <p:spPr>
          <a:xfrm>
            <a:off x="137160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box (from p.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0002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can0003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ÁGINA 14, EJERCICIO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rite the plural form of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e sure to follow the rules in the Gramática Box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lumno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rofes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royect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ordenad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ventana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libro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otulador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lápiz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ÁGINA 14, EJERCICIO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rite the plural form of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e sure to follow the rules in the Gramática Box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alumno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rofes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royect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ordenad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ventana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libro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rotulador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lápiz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use h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Use INDEFINITE articles (UN, UNA, UNOS, UNAS) to be speci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mi estuch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an eraser in my backp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ápic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mi mochil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here are some pencils in my backp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) DON´T USE ARTICLE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ay” when talking in gener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a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omas, lápices y bolígraf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mi mochi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here are erasers, pencils, and pens in my backp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DO NOT USE DEFINITE ARTICLES (EL, LA, LOS, LAS) AFTER H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OKS IN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sound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better to sa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OKS IN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to Span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44:51Z</dcterms:created>
  <dc:creator>wanda.snowfrost</dc:creator>
  <dc:description/>
  <dc:language>en-US</dc:language>
  <cp:lastModifiedBy>wanda.snowfrost</cp:lastModifiedBy>
  <dcterms:modified xsi:type="dcterms:W3CDTF">2015-10-22T03:58:32Z</dcterms:modified>
  <cp:revision>98</cp:revision>
  <dc:subject/>
  <dc:title>El dieciséis de octubre</dc:title>
</cp:coreProperties>
</file>